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CDC-1591-4708-9866-EEFC85A1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941-7C72-4BB0-B266-02606193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119-46D3-407A-8481-B033DF66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98C-70AC-4D13-A364-D2742230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CAF-7C3B-4FD7-9201-91A1856B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482E-F634-4D4D-A2AF-DFC99F59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7CA-9C55-490A-A5A8-13B44A02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B6E4-9B1C-43F4-BF72-6107D1F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E634-9581-49D6-B4A5-1A83F71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B100-4F2D-4BA0-B3EA-6EAF62D8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1C95-3091-4E6E-871F-4E5FDF2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8E9-4998-47FC-915C-E3CB9E9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D5C5-4040-4E77-AA4E-18E5940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440-2751-4E32-AA2A-C6E7FCC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FBC4-7B30-4975-908B-5DF2D1C1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51E-8291-4386-B952-C6B8485B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1805-C769-4B38-A2DF-97AA614D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D06-5CFE-4006-85AF-A65FA00D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08B-D198-4EEA-A253-D4C8DE1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D59-A900-4FD5-A7F5-A89A805E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386-F6CE-4699-BDC5-8D9620C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02E-6FE2-4643-BE8F-D4DC8F8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A51-5A86-4ED8-A562-852BCE71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B17-790F-436A-8961-2758DFD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4EDD-8A87-4E26-ADEF-965F76D384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CEC0-A925-4139-A9FA-6EDB348070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Clase 7IM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21 de septiembre del 201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3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continuamos el repaso de los verbos radical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e 2 oraciones originales con cada verbos (1 singular, 1 plur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ezar (to beg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ferir (to pref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er (to want 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(to sle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(to be able 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paso de la Actividad Inci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njugate the regular following verb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600200"/>
          <a:ext cx="8686440" cy="4546440"/>
        </p:xfrm>
        <a:graphic>
          <a:graphicData uri="http://schemas.openxmlformats.org/drawingml/2006/table">
            <a:tbl>
              <a:tblPr/>
              <a:tblGrid>
                <a:gridCol w="3213720"/>
                <a:gridCol w="5472720"/>
              </a:tblGrid>
              <a:tr h="68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                       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Comer         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Beber       </a:t>
                      </a: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cubr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V="1">
            <a:off x="5410080" y="1599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0532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286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286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238880" y="1599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O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 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O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set of stem-changing verbs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stem changes to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 The endings remain the same as in regular –ER/-IR verb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3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be checking for PREPAREDNESS. Make sure you hav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c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vered Text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dcterms:modified xsi:type="dcterms:W3CDTF">2011-09-21T19:27:24Z</dcterms:modified>
  <cp:revision>9</cp:revision>
  <dc:subject/>
  <dc:title>Me llamo __________   Clase 7IM La fecha es el 2 de diciembre del 2010</dc:title>
</cp:coreProperties>
</file>